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779-BDF2-4EF8-89A1-96F5C761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903-C571-4F6D-BDE5-3E18B36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4C2-D650-4AD8-8C51-FBA87FBA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346-41E7-41F5-BFAF-7618013C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1698-DD04-4DD2-A536-FE6B88D6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00A4-A6EB-4318-BA7F-CC1C616A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33A5-6019-4035-8001-81B5726F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6E3-F76E-4382-A265-E783F645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6E19-1A82-4E69-B696-016E8BAD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151E-970C-4C75-A767-4ED3DB12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1118-FD45-42BC-B702-2280B7D8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828-4DBD-4B11-AC1D-1AA39B0B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FE7A-6C49-4070-9404-5BD080D0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8A36-E7DC-44E8-826E-3F1BFE5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6EE-5FA8-4B8D-81FE-E3C8FC92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F01D-B90A-4822-A948-75E585E8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7C25-2132-4076-9EE7-D1618D5B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EE5-2191-4535-B448-DE74434A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B81-9CA2-4C72-8B25-5D70B0A3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9AE-9510-4306-A16C-1A6EC4DD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D06-64F0-486D-BA57-E49F2FF0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9F7-23AF-4352-A101-718E652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915-05BA-4C08-98B0-BFDCD8E7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65B-535E-467C-ADC3-DEE174EE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7FDB-4FD3-4F95-8509-054531582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2E8D-256D-4BFB-9491-AD0E3FA88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5832"/>
                </a:solidFill>
                <a:latin typeface="Bernard MT Condensed"/>
              </a:rPr>
              <a:t>Pacific Northwest</a:t>
            </a:r>
            <a:br>
              <a:rPr sz="5400"/>
            </a:br>
            <a:r>
              <a:rPr b="0" lang="en-US" sz="4400" spc="-1" strike="noStrike">
                <a:solidFill>
                  <a:srgbClr val="265832"/>
                </a:solidFill>
                <a:latin typeface="Bernard MT Condensed"/>
              </a:rPr>
              <a:t>Forest Frien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5086080"/>
            <a:ext cx="59436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5832"/>
                </a:solidFill>
                <a:latin typeface="Bernard MT Condensed"/>
              </a:rPr>
              <a:t>Created by Francesca Him, Katie Howell, Tyler Bayer, Jon Ollila, Morgan Carey and Brea No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tree.jpg"/>
          <p:cNvPicPr/>
          <p:nvPr/>
        </p:nvPicPr>
        <p:blipFill>
          <a:blip r:embed="rId1"/>
          <a:stretch/>
        </p:blipFill>
        <p:spPr>
          <a:xfrm>
            <a:off x="3505320" y="1828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recycle.jpg"/>
          <p:cNvPicPr/>
          <p:nvPr/>
        </p:nvPicPr>
        <p:blipFill>
          <a:blip r:embed="rId1"/>
          <a:stretch/>
        </p:blipFill>
        <p:spPr>
          <a:xfrm>
            <a:off x="6324480" y="1752480"/>
            <a:ext cx="2438640" cy="2422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c2b09"/>
                </a:solidFill>
                <a:latin typeface="Arial"/>
              </a:rPr>
              <a:t>Pacific Northwest Forest Friends-4</a:t>
            </a:r>
            <a:r>
              <a:rPr b="0" i="1" lang="en-US" sz="4400" spc="-1" strike="noStrike" baseline="30000">
                <a:solidFill>
                  <a:srgbClr val="4c2b09"/>
                </a:solidFill>
                <a:latin typeface="Arial"/>
              </a:rPr>
              <a:t>th</a:t>
            </a:r>
            <a:r>
              <a:rPr b="0" i="1" lang="en-US" sz="4400" spc="-1" strike="noStrike">
                <a:solidFill>
                  <a:srgbClr val="4c2b09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This unit will be used in a fourth grade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581280" y="4038480"/>
            <a:ext cx="48769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It is an interdisciplinary unit on forests that primarily addresses the social sciences, literacy and arts curricul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squirrel.jpg"/>
          <p:cNvPicPr/>
          <p:nvPr/>
        </p:nvPicPr>
        <p:blipFill>
          <a:blip r:embed="rId2"/>
          <a:stretch/>
        </p:blipFill>
        <p:spPr>
          <a:xfrm rot="18927000">
            <a:off x="1060560" y="4086360"/>
            <a:ext cx="23414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c2b09"/>
                </a:solidFill>
                <a:latin typeface="Century Gothic"/>
              </a:rPr>
              <a:t>Curriculum Framing Ques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5832"/>
                </a:solidFill>
                <a:latin typeface="Century Gothic"/>
              </a:rPr>
              <a:t>Essential Question:</a:t>
            </a:r>
            <a:r>
              <a:rPr b="0" lang="en-US" sz="3200" spc="-1" strike="noStrike">
                <a:solidFill>
                  <a:srgbClr val="265832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-310320">
              <a:lnSpc>
                <a:spcPct val="90000"/>
              </a:lnSpc>
              <a:spcBef>
                <a:spcPts val="649"/>
              </a:spcBef>
              <a:buClr>
                <a:srgbClr val="265832"/>
              </a:buClr>
              <a:buFont typeface="Century Gothic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How can we respect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understand the eart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5832"/>
                </a:solidFill>
                <a:latin typeface="Century Gothic"/>
              </a:rPr>
              <a:t>Unit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-310320">
              <a:lnSpc>
                <a:spcPct val="90000"/>
              </a:lnSpc>
              <a:spcBef>
                <a:spcPts val="649"/>
              </a:spcBef>
              <a:buClr>
                <a:srgbClr val="265832"/>
              </a:buClr>
              <a:buFont typeface="Century Gothic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How are forests important to the earth and it’s peopl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265832"/>
              </a:buClr>
              <a:buFont typeface="Century Gothic"/>
              <a:buChar char="•"/>
              <a:tabLst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5832"/>
                </a:solidFill>
                <a:latin typeface="Century Gothic"/>
              </a:rPr>
              <a:t>What are some things that we can do to save forests?</a:t>
            </a:r>
            <a:br>
              <a:rPr sz="2800"/>
            </a:b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kid rec.jpg"/>
          <p:cNvPicPr/>
          <p:nvPr/>
        </p:nvPicPr>
        <p:blipFill>
          <a:blip r:embed="rId1"/>
          <a:stretch/>
        </p:blipFill>
        <p:spPr>
          <a:xfrm>
            <a:off x="6324480" y="1751040"/>
            <a:ext cx="18288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c2b09"/>
                </a:solidFill>
                <a:latin typeface="Century Gothic"/>
              </a:rPr>
              <a:t>Oregon State Standa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5832"/>
                </a:solidFill>
                <a:latin typeface="Century Gothic"/>
              </a:rPr>
              <a:t>Fourth Grade Standards for Social Science, Art and Literac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El.04.RE.03: Listen to, read, and understand a wide variety of informational and narrative text, including classic and contemporary literature, poetry, magazines, newspapers, reference materials, and online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El.04.RE.09</a:t>
            </a:r>
            <a:r>
              <a:rPr b="1" lang="en-US" sz="1400" spc="-1" strike="noStrike">
                <a:solidFill>
                  <a:srgbClr val="265832"/>
                </a:solidFill>
                <a:latin typeface="Century Gothic"/>
              </a:rPr>
              <a:t>: </a:t>
            </a: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Understand, learn, and use new vocabulary that is introduced and taught directly through informational text, literary text, and instruction across the subject are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AR.05.HC.03: Describe how works of art from various historic periods reflect the artist's environment, society and cul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AR.05.CP.03: Create, present and/or perform a work of art and explain how the use of essential elements and organizational principles shapes an idea, mood or feeling found in the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SS.05.GE.03.03: Locate, identify, and know the significance of major mountains, rivers, and land regions of Oreg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6583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5832"/>
                </a:solidFill>
                <a:latin typeface="Century Gothic"/>
              </a:rPr>
              <a:t>SS.05.GE.07: Understand how physical environments are affected by human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38"/>
          <p:cNvSpPr/>
          <p:nvPr/>
        </p:nvSpPr>
        <p:spPr>
          <a:xfrm>
            <a:off x="86832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39"/>
          <p:cNvSpPr/>
          <p:nvPr/>
        </p:nvSpPr>
        <p:spPr>
          <a:xfrm>
            <a:off x="1676520" y="1981080"/>
            <a:ext cx="6522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b09"/>
                </a:solidFill>
                <a:latin typeface="Century Gothic"/>
              </a:rPr>
              <a:t>Learning Ob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239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1066680" y="1600200"/>
            <a:ext cx="777240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5832"/>
                </a:solidFill>
                <a:latin typeface="Century Gothic"/>
              </a:rPr>
              <a:t>The students wi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What is a fores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What plants are in our for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What animals are in our for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What do we get from fores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658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How can we respect and preserve our     </a:t>
            </a: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265832"/>
                </a:solidFill>
                <a:latin typeface="Century Gothic"/>
              </a:rPr>
              <a:t>fores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2" descr="bear.jpg"/>
          <p:cNvPicPr/>
          <p:nvPr/>
        </p:nvPicPr>
        <p:blipFill>
          <a:blip r:embed="rId1"/>
          <a:stretch/>
        </p:blipFill>
        <p:spPr>
          <a:xfrm>
            <a:off x="3352680" y="4572000"/>
            <a:ext cx="35164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23:37:16Z</dcterms:created>
  <dc:creator>ICT User</dc:creator>
  <dc:description/>
  <dc:language>en-US</dc:language>
  <cp:lastModifiedBy>chandany</cp:lastModifiedBy>
  <dcterms:modified xsi:type="dcterms:W3CDTF">2009-08-03T18:34:51Z</dcterms:modified>
  <cp:revision>95</cp:revision>
  <dc:subject/>
  <dc:title>Computers and My Kindergartners</dc:title>
</cp:coreProperties>
</file>